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85B-54E6-4370-9722-EE02B99D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641-CADA-4EC5-A251-14A1909C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F78-7329-41FD-AF2A-FA18A39E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A5C-F2B0-4FAE-92E6-44FB7A2F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B900-3263-42F1-8385-5CEEF3A5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AC9D-1463-4D37-96D5-445FD6AC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278D-48F1-4738-B0A3-B0F35E3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8DD-DA96-40CF-A881-81278BA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4D55-1EDF-4EAF-98CD-A451F7C4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03F5-52B2-4A91-873D-6D2251A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74D-0167-4F0E-8E0A-BE6E012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4FD-8F62-445F-A5EC-60E7FB5F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AB42-B449-4693-9EF2-DFF2C64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9CB-932E-418A-91AF-9F7556CB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61C5-403F-4A5E-89AE-589BD26B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7DD1-32D6-4932-A1B8-BD46D0CA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0E00-941F-4FF0-BAC9-AB3526B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4DD-E265-49B7-8198-18912BB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7DC-1068-415C-BD97-D78C25F6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A3E-F2AA-4A3E-A596-0D2097BA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B02-0C0F-4038-9918-7E708677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851-CF12-46CF-88D8-BFDFB56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104-83B7-411C-A31F-0B054ABF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569-1B6B-40A1-8DE7-05E9373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BA2F-BCFD-4FBE-8322-E4BDF6D4A4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8FBA-7678-4C4B-BC6D-EE2902570B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ahoma"/>
              </a:rPr>
              <a:t>The Atlantic Slave Trade</a:t>
            </a:r>
            <a:br>
              <a:rPr sz="4800"/>
            </a:br>
            <a:r>
              <a:rPr b="0" lang="en-US" sz="4800" spc="-1" strike="noStrike">
                <a:solidFill>
                  <a:srgbClr val="ff9900"/>
                </a:solidFill>
                <a:latin typeface="Tahoma"/>
              </a:rPr>
              <a:t>(15</a:t>
            </a:r>
            <a:r>
              <a:rPr b="0" lang="en-US" sz="4800" spc="-1" strike="noStrike" baseline="30000">
                <a:solidFill>
                  <a:srgbClr val="ff9900"/>
                </a:solidFill>
                <a:latin typeface="Tahoma"/>
              </a:rPr>
              <a:t>th</a:t>
            </a:r>
            <a:r>
              <a:rPr b="0" lang="en-US" sz="4800" spc="-1" strike="noStrike">
                <a:solidFill>
                  <a:srgbClr val="ff9900"/>
                </a:solidFill>
                <a:latin typeface="Tahoma"/>
              </a:rPr>
              <a:t>-19</a:t>
            </a:r>
            <a:r>
              <a:rPr b="0" lang="en-US" sz="4800" spc="-1" strike="noStrike" baseline="30000">
                <a:solidFill>
                  <a:srgbClr val="ff9900"/>
                </a:solidFill>
                <a:latin typeface="Tahoma"/>
              </a:rPr>
              <a:t>th</a:t>
            </a:r>
            <a:r>
              <a:rPr b="0" lang="en-US" sz="4800" spc="-1" strike="noStrike">
                <a:solidFill>
                  <a:srgbClr val="ff9900"/>
                </a:solidFill>
                <a:latin typeface="Tahoma"/>
              </a:rPr>
              <a:t> Centuries)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ommerce in Peo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202068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African Slaves Washing Gol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851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Investors in the Slave Tra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Henry the Navig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zabeth 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is X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828800" cy="274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2857680" cy="1838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76720" y="4330800"/>
            <a:ext cx="2211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Essential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explains the rise of the Atlantic slave tr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s did Europeans &amp; Africans pl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the Atlantic slave trade transform African societ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the Atlantic slave trade differ from other forms of slave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85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Trans-Atlantic Slave Trade/Triangular Tra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Nations Participating in the 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Slave Tra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249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The Middle Pass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om Africa to the Amer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st Ind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rth &amp; South Amer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gh death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22860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Slave 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66680" y="1143000"/>
            <a:ext cx="6934320" cy="520056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380880"/>
            <a:ext cx="7010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“</a:t>
            </a: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Coffin” Position Below De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05360" cy="457704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152280"/>
            <a:ext cx="7010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African Captives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Thrown Over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474372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228600"/>
            <a:ext cx="6858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BlackChancery"/>
              </a:rPr>
              <a:t>Slaves Working in a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BlackChancery"/>
              </a:rPr>
              <a:t>Brazilian Sugar M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1676520"/>
            <a:ext cx="6553440" cy="491472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Slave Market in Algi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455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4:49:41Z</dcterms:created>
  <dc:creator>epilla</dc:creator>
  <dc:description/>
  <dc:language>en-US</dc:language>
  <cp:lastModifiedBy>epilla</cp:lastModifiedBy>
  <dcterms:modified xsi:type="dcterms:W3CDTF">2009-10-26T16:22:28Z</dcterms:modified>
  <cp:revision>5</cp:revision>
  <dc:subject/>
  <dc:title>The Atlantic Slave Trade</dc:title>
</cp:coreProperties>
</file>